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5.jpeg" ContentType="image/jpeg"/>
  <Override PartName="/ppt/media/image39.jpeg" ContentType="image/jpeg"/>
  <Override PartName="/ppt/media/image44.wmf" ContentType="image/x-wmf"/>
  <Override PartName="/ppt/media/image43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media/image40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02AA-3488-4C01-B614-734970931E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95B-7F7E-41F5-B611-C2FA504C80E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B89-060F-41FD-B6B3-0CE9200A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43A-0FA4-44AC-B964-DAC4282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A88-2B84-4280-81C7-FB6835BC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424-9BD4-42E1-9D9A-8F5366A4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4B06-5CFE-4F0D-B029-5AF963BB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A9A6-E5AB-4529-B395-9F3BAFE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6B9C-3C15-41B6-9B21-21215F6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BCD8-AA74-42F5-A770-EE68E03A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975C-2C3B-4EBA-B0E0-471F1DE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405C-451E-4215-A4B7-AA5E9FFB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6207-23EE-4850-81A2-9ABA506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935-33F7-4D1E-A806-15746719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D77C-1D09-44E8-B735-48D396D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E237-AF8A-421E-A50D-9271AD8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6D8-00FF-4F88-98A7-8EF6DFE2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E4F-4E2E-4B0F-A9F5-B738659A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4C11-7040-4CCF-B48E-F3890614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6B6-7799-4279-9AEC-57B8450D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CB9-796F-4DA4-8B36-05F5644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A06-BA35-4F6A-A9D2-76A91485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52F-375D-41DC-BA83-9F09C28F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24E-0CD1-4DBD-8B75-90CE230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709-86AB-40C2-B4FD-83BB95E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174-84BE-4F4D-86DD-555D2A24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B79-4EDC-4926-8EE3-1B70390695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823B-7371-4E9A-9B98-1104D5F78A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459-B619-408D-9C5B-56CA378F7F3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A73F-4A43-44DE-A96F-34578DF287B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B0FC-E4F4-49A4-9B31-553E06A77BA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A28-2DAD-4BFA-B93E-EE6AA92E182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9C93-0B5C-4AEE-83D1-3AA423C458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BB1-6266-4E67-849D-7017BEAD46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3513-F7DD-4E72-A565-86FF09B499B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9A7-3487-4691-A219-C7028689F67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A750-8E24-4D79-9FFE-D592EF43301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083-AD9B-4028-8B77-8B03FD557BF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44D9-7892-4383-BFC4-7249B554C8D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157-8046-4344-8ABE-4ACBAB21E45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0788-8A11-451A-8EDD-B5AA0C1B2A6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C7A-B0E3-4222-89E9-DD4B1EE6A44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D20-5822-4F26-A148-A7DC9E1B05F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4BEA-6DC8-43A7-85FE-416A4A4683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37AE-613E-4255-A687-7AC7961C08F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05B1-D19A-4B5A-91EF-483E9D05B58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7C37-76C1-4793-834F-9E16CE39E71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055D-465E-4459-8056-26EBD9362D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23D5-218F-4886-B0D7-A8D688767F6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9ABE-3B19-42F5-8AD9-04E135D7B7F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D21B-8136-4464-99D6-195FD49D48C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0F58-C1E1-4173-9A9B-9F93F923D7E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3CA-90B1-4E74-BD61-22701F9AAA1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75D0-06EF-40FB-AD97-D5EAD47D1C6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D74C-77A2-4202-AC33-F4FF8838B35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D331-F22B-43DD-BF7F-145C88245CF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63D3-F3EF-4D21-A77A-DE95A3A4F52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7EE-3F95-4263-BB9F-3C1C5B6B204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333-A215-4952-868C-D2F2559306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